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8D2-53CB-4A5A-9CD0-49AB674D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8F7-67DB-4591-859F-859E68E1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AA2-2D49-4AEF-81BE-B0FBAB8C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1995-BC5C-46CF-9AE8-619D7834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940-CE5C-478E-BB2E-6F200A93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720-1167-463D-84A4-4AFA566F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DCA-DAA0-4A0E-89AC-4BF61D02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B63-AD7E-40D3-8337-50930FBC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8AD-6086-4878-B4A8-ECF33940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944-6321-4B32-B499-77BB61F2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213-B1CD-4A7F-ACA5-F99D35C0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E1E-EC9B-4CB5-8764-10DAA3AA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7BC1-A94D-41C1-8393-87FEDAA38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indie Get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tional Water Management Instit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Nov. 12,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ing economic consequences of rainwater management in the Blue Nile bas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crop-specific sediment and run off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enarios and strategies not yet concretized and quantif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ydrolog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yiel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mpacts, then economic consequences, of strategies not well lin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extrapolate impacts  to a basin level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3352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Dotum"/>
              </a:rPr>
              <a:t>Three phase research activities to achiev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Dotum"/>
              </a:rPr>
              <a:t>output 2.3 of N4 (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  <a:ea typeface="Dotum"/>
              </a:rPr>
              <a:t>anticipating economic impacts of RWM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Dotum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Dotum"/>
              </a:rPr>
              <a:t>1.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Dotum"/>
              </a:rPr>
              <a:t>Characterizing  the baseline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Dotum"/>
              </a:rPr>
              <a:t>situation at a HRU (</a:t>
            </a:r>
            <a:r>
              <a:rPr b="0" i="1" lang="en-US" sz="2800" spc="-1" strike="noStrike">
                <a:solidFill>
                  <a:srgbClr val="404040"/>
                </a:solidFill>
                <a:latin typeface="Calibri"/>
                <a:ea typeface="Dotum"/>
              </a:rPr>
              <a:t>the business as usual scenario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Dotum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Dotum"/>
              </a:rPr>
              <a:t>2.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Dotum"/>
              </a:rPr>
              <a:t>Assessing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  <a:ea typeface="Dotum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Dotum"/>
              </a:rPr>
              <a:t>consequences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Dotum"/>
              </a:rPr>
              <a:t> at HRU level using different RWM strategies and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Dotum"/>
              </a:rPr>
              <a:t>3.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Dotum"/>
              </a:rPr>
              <a:t>Extrapolating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Dotum"/>
              </a:rPr>
              <a:t> HRU level consequences of the new RWM strategies to a basin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Calibri"/>
              </a:rPr>
              <a:t>Characterizing the baseline situ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Modeling approach - ECOSA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Economic, social and environmental assessment of land use types and management practices (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the three dimensions of sustainability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Relevant biophysical and socioeconomic data gathered for the three NBDC sites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Calibri"/>
              </a:rPr>
              <a:t>(Jeldu, Diga, Foger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Spatial and temporal scal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Crop, livestock (and interactions) and employment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Water and sedi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Quantitative data for quantitative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ECOSAUT populated for Jeldu and Fog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Preliminary analysis  made for Jeld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ntent Placeholder 3" descr="C:\Users\kgetnet\AppData\Local\Microsoft\Windows\Temporary Internet Files\Content.Outlook\70SCBRI7\Farm_plot_Final.jpg"/>
          <p:cNvPicPr/>
          <p:nvPr/>
        </p:nvPicPr>
        <p:blipFill>
          <a:blip r:embed="rId1"/>
          <a:stretch/>
        </p:blipFill>
        <p:spPr>
          <a:xfrm>
            <a:off x="0" y="152280"/>
            <a:ext cx="92962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Arabic Typesetting"/>
              </a:rPr>
              <a:t>Preliminary results for Jeld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COSAUT findings mimic re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abic Typesetting"/>
              </a:rPr>
              <a:t>Optimization made possible over the entire sample micro-watershed (20ha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abic Typesetting"/>
              </a:rPr>
              <a:t>Baseline scenario generates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ypesetting"/>
              </a:rPr>
              <a:t>net farm incom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abic Typesetting"/>
              </a:rPr>
              <a:t>of USD$404,790 over 1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70 plots (most plots crop production, some trees, and rest grazing lan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73080" y="285840"/>
            <a:ext cx="8766000" cy="59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225360" y="396720"/>
            <a:ext cx="89186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101520" y="254160"/>
            <a:ext cx="8940960" cy="59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920" y="609480"/>
            <a:ext cx="8534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The remaining ques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ill a change in land use and resource management change the above indicators positively (farm income, poverty, and soil erosion) in the watershed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96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Next activit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land use and resource management scenario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ess their consequences at HRU sca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trapolate basin-wide imp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 policy and decision ma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1:06:06Z</dcterms:created>
  <dc:creator>Getnet, Kinde (IWMI)</dc:creator>
  <dc:description/>
  <dc:language>en-US</dc:language>
  <cp:lastModifiedBy>LeBorgne, Ewen (ILRI)</cp:lastModifiedBy>
  <dcterms:modified xsi:type="dcterms:W3CDTF">2012-11-13T06:27:51Z</dcterms:modified>
  <cp:revision>48</cp:revision>
  <dc:subject/>
  <dc:title>Anticipating the consequences rainwater management in the Nile basin</dc:title>
</cp:coreProperties>
</file>